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94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sldImg"/>
          </p:nvPr>
        </p:nvSpPr>
        <p:spPr>
          <a:xfrm>
            <a:off x="1157400" y="995040"/>
            <a:ext cx="4541760" cy="34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1045800" y="4734000"/>
            <a:ext cx="4768920" cy="37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1"/>
          <p:cNvSpPr/>
          <p:nvPr/>
        </p:nvSpPr>
        <p:spPr>
          <a:xfrm>
            <a:off x="1401840" y="995400"/>
            <a:ext cx="4054320" cy="3409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43200" bIns="432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body"/>
          </p:nvPr>
        </p:nvSpPr>
        <p:spPr>
          <a:xfrm>
            <a:off x="1045800" y="4733640"/>
            <a:ext cx="4770360" cy="37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FIGURE 5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Analysis of the NCCR organization of MCPyV. 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The NCCR is classified into two main subtypes: with a 25-bp insertion (subtype I) and without a 25-bp insertion (subtype II). Subtype II is further divided into four subgroups, IIa-1, IIa-2, IIb, and IIc, based on incidences of insertion and deletion of nucleotides.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(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B, C)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Alignments and sequences of the NCCR were identified in 3 lung cancer tissue samples from Korean patients (BL13, BL28, and JL150). The nucleotide substitutions in the NCCR are numbered and marked in gray boxes and filled triangles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: BL13, C &gt; T at position 5,153, G &gt; A at position 5,168; BL28, C &gt; T at position 5,190, G &gt; A at position 5,203, C &gt; T at position 5,238; JL150, A &gt; G at position 5,239. BL13*;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full-length MCPyV genome identified in this stud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73944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1490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64932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55920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73944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64932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55920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8000" indent="0" algn="ctr">
              <a:lnSpc>
                <a:spcPct val="93000"/>
              </a:lnSpc>
              <a:spcAft>
                <a:spcPts val="8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739440" y="62676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8000" algn="ctr">
              <a:lnSpc>
                <a:spcPct val="93000"/>
              </a:lnSpc>
              <a:spcAft>
                <a:spcPts val="887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490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727280" indent="-21600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15892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15892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15892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그룹 3"/>
          <p:cNvGrpSpPr/>
          <p:nvPr/>
        </p:nvGrpSpPr>
        <p:grpSpPr>
          <a:xfrm>
            <a:off x="185760" y="557280"/>
            <a:ext cx="9720360" cy="6527880"/>
            <a:chOff x="185760" y="557280"/>
            <a:chExt cx="9720360" cy="6527880"/>
          </a:xfrm>
        </p:grpSpPr>
        <p:grpSp>
          <p:nvGrpSpPr>
            <p:cNvPr id="42" name="그룹 1"/>
            <p:cNvGrpSpPr/>
            <p:nvPr/>
          </p:nvGrpSpPr>
          <p:grpSpPr>
            <a:xfrm>
              <a:off x="185760" y="557280"/>
              <a:ext cx="9720360" cy="5835240"/>
              <a:chOff x="185760" y="557280"/>
              <a:chExt cx="9720360" cy="5835240"/>
            </a:xfrm>
          </p:grpSpPr>
          <p:sp>
            <p:nvSpPr>
              <p:cNvPr id="43" name="직사각형 1"/>
              <p:cNvSpPr/>
              <p:nvPr/>
            </p:nvSpPr>
            <p:spPr>
              <a:xfrm>
                <a:off x="185760" y="557280"/>
                <a:ext cx="9720360" cy="5835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굴림"/>
                  </a:rPr>
                  <a:t>   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굴림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  <a:ea typeface="굴림"/>
                  </a:rPr>
                  <a:t>         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  <a:ea typeface="굴림"/>
                  </a:rPr>
                  <a:t>I</a:t>
                </a: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  <a:ea typeface="굴림"/>
                  </a:rPr>
                  <a:t>              TGTCCTCCTCCCTTTGTAAGAGAAATGTCCTCCTCCCTTTGTAAGAGAAAAAAAAGCCTCCGGGCCTCCCTTTTGTTGAAAAAAAGTTGAG 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  <a:ea typeface="굴림"/>
                  </a:rPr>
                  <a:t>        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  <a:ea typeface="굴림"/>
                  </a:rPr>
                  <a:t>IIa-1</a:t>
                </a: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  <a:ea typeface="굴림"/>
                  </a:rPr>
                  <a:t>        TGTCCTCCTCCCTTTGTAAGAGAAA  </a:t>
                </a: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  <a:ea typeface="굴림"/>
                  </a:rPr>
                  <a:t>- - - - - - - - - - - - - - - - - - - - - - - - -  </a:t>
                </a: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  <a:ea typeface="굴림"/>
                  </a:rPr>
                  <a:t>AAAAAGCCTCCGGGCCTCCCTT</a:t>
                </a: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  <a:ea typeface="굴림"/>
                  </a:rPr>
                  <a:t>- - </a:t>
                </a: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  <a:ea typeface="굴림"/>
                  </a:rPr>
                  <a:t>GTTGAAAAAAA</a:t>
                </a: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  <a:ea typeface="굴림"/>
                  </a:rPr>
                  <a:t>- - - - - </a:t>
                </a: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  <a:ea typeface="굴림"/>
                  </a:rPr>
                  <a:t>G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  <a:ea typeface="굴림"/>
                  </a:rPr>
                  <a:t>        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  <a:ea typeface="굴림"/>
                  </a:rPr>
                  <a:t>IIa-2</a:t>
                </a: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  <a:ea typeface="굴림"/>
                  </a:rPr>
                  <a:t>        TGTCCTCCTCCCTTTGTAAGAGAAA  </a:t>
                </a: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  <a:ea typeface="굴림"/>
                  </a:rPr>
                  <a:t>- - - - - - - - - - - - - - - - - - - - - - - - -  </a:t>
                </a: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  <a:ea typeface="굴림"/>
                  </a:rPr>
                  <a:t>AAAAAGCCTCCGGGCCTCCCTT</a:t>
                </a: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  <a:ea typeface="굴림"/>
                  </a:rPr>
                  <a:t>- - </a:t>
                </a: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  <a:ea typeface="굴림"/>
                  </a:rPr>
                  <a:t>GTTGAAAAAAAGTTGAG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  <a:ea typeface="굴림"/>
                  </a:rPr>
                  <a:t>        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  <a:ea typeface="굴림"/>
                  </a:rPr>
                  <a:t>IIb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  <a:ea typeface="굴림"/>
                  </a:rPr>
                  <a:t> </a:t>
                </a: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  <a:ea typeface="굴림"/>
                  </a:rPr>
                  <a:t>          TGTCCTCCTCCCTTTGTAAGAGAAA  </a:t>
                </a: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  <a:ea typeface="굴림"/>
                  </a:rPr>
                  <a:t>- - - - - - - - - - - - - - - - - - - - - - - - -  </a:t>
                </a: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  <a:ea typeface="굴림"/>
                  </a:rPr>
                  <a:t>AAAAAGCCTCCGGGCCTC</a:t>
                </a: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  <a:ea typeface="굴림"/>
                  </a:rPr>
                  <a:t>- - - - - - - - - </a:t>
                </a: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  <a:ea typeface="굴림"/>
                  </a:rPr>
                  <a:t>GAAAAAAAGTTGAG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  <a:ea typeface="굴림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  <a:ea typeface="굴림"/>
                  </a:rPr>
                  <a:t>        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  <a:ea typeface="굴림"/>
                  </a:rPr>
                  <a:t>IIc</a:t>
                </a: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  <a:ea typeface="굴림"/>
                  </a:rPr>
                  <a:t>            TGTCCTCCTCCCTTTGTAAGAGAAA  </a:t>
                </a: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  <a:ea typeface="굴림"/>
                  </a:rPr>
                  <a:t>- - - - - - - - - - - - - - - - - - - - - - - - -  </a:t>
                </a: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  <a:ea typeface="굴림"/>
                  </a:rPr>
                  <a:t>AAAAAGCCTCCGGGCCTCCCTTTTGTTGAAAAAAAGTTGAG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굴림"/>
                  </a:rPr>
                  <a:t>   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굴림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  <a:ea typeface="굴림"/>
                  </a:rPr>
                  <a:t>       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  <a:ea typeface="굴림"/>
                  </a:rPr>
                  <a:t>BL13* </a:t>
                </a: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  <a:ea typeface="굴림"/>
                  </a:rPr>
                  <a:t>   TGCCCTCCTCCCTTTGTGAGAGAAATGTCCTCCTCCCTTTGTAAGAGAAAAAAAAGCCTCCGGGCCTCCCTTTTGTTGAAAAAAAGTTGAG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  <a:ea typeface="굴림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  <a:ea typeface="굴림"/>
                  </a:rPr>
                  <a:t>       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  <a:ea typeface="굴림"/>
                  </a:rPr>
                  <a:t>BL28 </a:t>
                </a: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  <a:ea typeface="굴림"/>
                  </a:rPr>
                  <a:t>     TGTCCTCCTCCCTTTGTAAGAGAAATGTCCTCCTCCCTTCGTAAGAGAAAAAGAAGCCTCCGGGCCTCCCTTTTGTTGAAAAAAAGTCGAG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굴림"/>
                  </a:rPr>
                  <a:t>      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  <a:ea typeface="굴림"/>
                  </a:rPr>
                  <a:t>JL150</a:t>
                </a: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  <a:ea typeface="굴림"/>
                  </a:rPr>
                  <a:t>     TGTCCTCCTCCCTTTGTAAGAGAAA  </a:t>
                </a: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  <a:ea typeface="굴림"/>
                  </a:rPr>
                  <a:t>- - - - - - - - - - - - - - - - - - - - - - - - -</a:t>
                </a: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  <a:ea typeface="굴림"/>
                  </a:rPr>
                  <a:t>   AAAAAGCCTCCGGGCCTCCCTTTTGTTGAAAAAAAGTTAAG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굴림"/>
                  </a:rPr>
                  <a:t>   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굴림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  <a:ea typeface="굴림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" name="직사각형 26"/>
              <p:cNvSpPr/>
              <p:nvPr/>
            </p:nvSpPr>
            <p:spPr>
              <a:xfrm>
                <a:off x="486360" y="1366920"/>
                <a:ext cx="8406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  <a:ea typeface="굴림"/>
                  </a:rPr>
                  <a:t>(</a:t>
                </a: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굴림"/>
                  </a:rPr>
                  <a:t>MCC350</a:t>
                </a: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  <a:ea typeface="굴림"/>
                  </a:rPr>
                  <a:t>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" name="직사각형 5"/>
            <p:cNvSpPr/>
            <p:nvPr/>
          </p:nvSpPr>
          <p:spPr>
            <a:xfrm>
              <a:off x="3290760" y="839520"/>
              <a:ext cx="115560" cy="1512720"/>
            </a:xfrm>
            <a:prstGeom prst="rect">
              <a:avLst/>
            </a:prstGeom>
            <a:solidFill>
              <a:srgbClr val="a6a6a6">
                <a:alpha val="4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직사각형 5"/>
            <p:cNvSpPr/>
            <p:nvPr/>
          </p:nvSpPr>
          <p:spPr>
            <a:xfrm>
              <a:off x="5594400" y="834840"/>
              <a:ext cx="104760" cy="1517400"/>
            </a:xfrm>
            <a:prstGeom prst="rect">
              <a:avLst/>
            </a:prstGeom>
            <a:solidFill>
              <a:srgbClr val="a6a6a6">
                <a:alpha val="4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직사각형 5"/>
            <p:cNvSpPr/>
            <p:nvPr/>
          </p:nvSpPr>
          <p:spPr>
            <a:xfrm>
              <a:off x="7159680" y="836640"/>
              <a:ext cx="101520" cy="1515960"/>
            </a:xfrm>
            <a:prstGeom prst="rect">
              <a:avLst/>
            </a:prstGeom>
            <a:solidFill>
              <a:srgbClr val="a6a6a6">
                <a:alpha val="4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직사각형 5"/>
            <p:cNvSpPr/>
            <p:nvPr/>
          </p:nvSpPr>
          <p:spPr>
            <a:xfrm>
              <a:off x="8007480" y="839520"/>
              <a:ext cx="101520" cy="1512720"/>
            </a:xfrm>
            <a:prstGeom prst="rect">
              <a:avLst/>
            </a:prstGeom>
            <a:solidFill>
              <a:srgbClr val="a6a6a6">
                <a:alpha val="4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직사각형 5"/>
            <p:cNvSpPr/>
            <p:nvPr/>
          </p:nvSpPr>
          <p:spPr>
            <a:xfrm>
              <a:off x="8656920" y="839520"/>
              <a:ext cx="98280" cy="1512720"/>
            </a:xfrm>
            <a:prstGeom prst="rect">
              <a:avLst/>
            </a:prstGeom>
            <a:solidFill>
              <a:srgbClr val="a6a6a6">
                <a:alpha val="4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직사각형 5"/>
            <p:cNvSpPr/>
            <p:nvPr/>
          </p:nvSpPr>
          <p:spPr>
            <a:xfrm>
              <a:off x="9196560" y="839520"/>
              <a:ext cx="106200" cy="1512720"/>
            </a:xfrm>
            <a:prstGeom prst="rect">
              <a:avLst/>
            </a:prstGeom>
            <a:solidFill>
              <a:srgbClr val="a6a6a6">
                <a:alpha val="4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직사각형 5"/>
            <p:cNvSpPr/>
            <p:nvPr/>
          </p:nvSpPr>
          <p:spPr>
            <a:xfrm>
              <a:off x="7510680" y="836640"/>
              <a:ext cx="102960" cy="1515960"/>
            </a:xfrm>
            <a:prstGeom prst="rect">
              <a:avLst/>
            </a:prstGeom>
            <a:solidFill>
              <a:srgbClr val="a6a6a6">
                <a:alpha val="4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직사각형 5"/>
            <p:cNvSpPr/>
            <p:nvPr/>
          </p:nvSpPr>
          <p:spPr>
            <a:xfrm>
              <a:off x="7753680" y="833400"/>
              <a:ext cx="112680" cy="1519200"/>
            </a:xfrm>
            <a:prstGeom prst="rect">
              <a:avLst/>
            </a:prstGeom>
            <a:solidFill>
              <a:srgbClr val="a6a6a6">
                <a:alpha val="4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3" name="직선 화살표 연결선 9"/>
            <p:cNvCxnSpPr/>
            <p:nvPr/>
          </p:nvCxnSpPr>
          <p:spPr>
            <a:xfrm>
              <a:off x="1159560" y="981720"/>
              <a:ext cx="222264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54" name="직선 화살표 연결선 34"/>
            <p:cNvCxnSpPr/>
            <p:nvPr/>
          </p:nvCxnSpPr>
          <p:spPr>
            <a:xfrm>
              <a:off x="3395880" y="981720"/>
              <a:ext cx="221076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55" name="직사각형 26"/>
            <p:cNvSpPr/>
            <p:nvPr/>
          </p:nvSpPr>
          <p:spPr>
            <a:xfrm>
              <a:off x="1645920" y="936720"/>
              <a:ext cx="1166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굴림"/>
                </a:rPr>
                <a:t>tendam repeat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직사각형 26"/>
            <p:cNvSpPr/>
            <p:nvPr/>
          </p:nvSpPr>
          <p:spPr>
            <a:xfrm>
              <a:off x="3882960" y="936720"/>
              <a:ext cx="1166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굴림"/>
                </a:rPr>
                <a:t>tendam repeat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왼쪽 대괄호 24"/>
            <p:cNvSpPr/>
            <p:nvPr/>
          </p:nvSpPr>
          <p:spPr>
            <a:xfrm rot="5400000">
              <a:off x="4435200" y="-316080"/>
              <a:ext cx="74520" cy="2211480"/>
            </a:xfrm>
            <a:custGeom>
              <a:avLst/>
              <a:gdLst>
                <a:gd name="textAreaLeft" fmla="*/ 21960 w 74520"/>
                <a:gd name="textAreaRight" fmla="*/ 74880 w 74520"/>
                <a:gd name="textAreaTop" fmla="*/ 2880 h 2211480"/>
                <a:gd name="textAreaBottom" fmla="*/ 2208600 h 2211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31"/>
                    <a:pt x="0" y="61"/>
                  </a:cubicBezTo>
                  <a:lnTo>
                    <a:pt x="0" y="21539"/>
                  </a:lnTo>
                  <a:cubicBezTo>
                    <a:pt x="0" y="21570"/>
                    <a:pt x="10800" y="21600"/>
                    <a:pt x="21600" y="21600"/>
                  </a:cubicBezTo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직사각형 26"/>
            <p:cNvSpPr/>
            <p:nvPr/>
          </p:nvSpPr>
          <p:spPr>
            <a:xfrm>
              <a:off x="3906720" y="558720"/>
              <a:ext cx="1130040" cy="19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굴림"/>
                </a:rPr>
                <a:t>25-bp insert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왼쪽 대괄호 47"/>
            <p:cNvSpPr/>
            <p:nvPr/>
          </p:nvSpPr>
          <p:spPr>
            <a:xfrm rot="5400000">
              <a:off x="7640640" y="730080"/>
              <a:ext cx="50760" cy="139680"/>
            </a:xfrm>
            <a:custGeom>
              <a:avLst/>
              <a:gdLst>
                <a:gd name="textAreaLeft" fmla="*/ 14760 w 50760"/>
                <a:gd name="textAreaRight" fmla="*/ 51120 w 50760"/>
                <a:gd name="textAreaTop" fmla="*/ 1800 h 139680"/>
                <a:gd name="textAreaBottom" fmla="*/ 137880 h 139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333"/>
                    <a:pt x="0" y="666"/>
                  </a:cubicBezTo>
                  <a:lnTo>
                    <a:pt x="0" y="20934"/>
                  </a:lnTo>
                  <a:cubicBezTo>
                    <a:pt x="0" y="21267"/>
                    <a:pt x="10800" y="21600"/>
                    <a:pt x="21600" y="21600"/>
                  </a:cubicBezTo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직사각형 26"/>
            <p:cNvSpPr/>
            <p:nvPr/>
          </p:nvSpPr>
          <p:spPr>
            <a:xfrm>
              <a:off x="7115400" y="592200"/>
              <a:ext cx="1131840" cy="19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굴림"/>
                </a:rPr>
                <a:t>2-bp insert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왼쪽 대괄호 49"/>
            <p:cNvSpPr/>
            <p:nvPr/>
          </p:nvSpPr>
          <p:spPr>
            <a:xfrm rot="5400000">
              <a:off x="8924400" y="604080"/>
              <a:ext cx="56880" cy="398160"/>
            </a:xfrm>
            <a:custGeom>
              <a:avLst/>
              <a:gdLst>
                <a:gd name="textAreaLeft" fmla="*/ 16560 w 56880"/>
                <a:gd name="textAreaRight" fmla="*/ 57240 w 56880"/>
                <a:gd name="textAreaTop" fmla="*/ 2160 h 398160"/>
                <a:gd name="textAreaBottom" fmla="*/ 396000 h 398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129"/>
                    <a:pt x="0" y="257"/>
                  </a:cubicBezTo>
                  <a:lnTo>
                    <a:pt x="0" y="21343"/>
                  </a:lnTo>
                  <a:cubicBezTo>
                    <a:pt x="0" y="21472"/>
                    <a:pt x="10800" y="21600"/>
                    <a:pt x="21600" y="21600"/>
                  </a:cubicBezTo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직사각형 26"/>
            <p:cNvSpPr/>
            <p:nvPr/>
          </p:nvSpPr>
          <p:spPr>
            <a:xfrm>
              <a:off x="8337600" y="593640"/>
              <a:ext cx="1130040" cy="19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굴림"/>
                </a:rPr>
                <a:t>5-bp insert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Text Box 9"/>
            <p:cNvSpPr/>
            <p:nvPr/>
          </p:nvSpPr>
          <p:spPr>
            <a:xfrm>
              <a:off x="1056960" y="1138320"/>
              <a:ext cx="835200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 </a:t>
              </a: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5153                                                             5177                                                                              5178                                         5195     5199     5200  5203         5210           5211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왼쪽 대괄호 52"/>
            <p:cNvSpPr/>
            <p:nvPr/>
          </p:nvSpPr>
          <p:spPr>
            <a:xfrm rot="5400000">
              <a:off x="8940600" y="1395360"/>
              <a:ext cx="68040" cy="398160"/>
            </a:xfrm>
            <a:custGeom>
              <a:avLst/>
              <a:gdLst>
                <a:gd name="textAreaLeft" fmla="*/ 19800 w 68040"/>
                <a:gd name="textAreaRight" fmla="*/ 68400 w 68040"/>
                <a:gd name="textAreaTop" fmla="*/ 2520 h 398160"/>
                <a:gd name="textAreaBottom" fmla="*/ 395640 h 398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156"/>
                    <a:pt x="0" y="311"/>
                  </a:cubicBezTo>
                  <a:lnTo>
                    <a:pt x="0" y="21289"/>
                  </a:lnTo>
                  <a:cubicBezTo>
                    <a:pt x="0" y="21445"/>
                    <a:pt x="10800" y="21600"/>
                    <a:pt x="21600" y="21600"/>
                  </a:cubicBezTo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직사각형 26"/>
            <p:cNvSpPr/>
            <p:nvPr/>
          </p:nvSpPr>
          <p:spPr>
            <a:xfrm>
              <a:off x="8344080" y="1379520"/>
              <a:ext cx="1130040" cy="19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굴림"/>
                </a:rPr>
                <a:t>5-bp insert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왼쪽 대괄호 54"/>
            <p:cNvSpPr/>
            <p:nvPr/>
          </p:nvSpPr>
          <p:spPr>
            <a:xfrm rot="5400000">
              <a:off x="7579080" y="1591200"/>
              <a:ext cx="68040" cy="704880"/>
            </a:xfrm>
            <a:custGeom>
              <a:avLst/>
              <a:gdLst>
                <a:gd name="textAreaLeft" fmla="*/ 19800 w 68040"/>
                <a:gd name="textAreaRight" fmla="*/ 68400 w 68040"/>
                <a:gd name="textAreaTop" fmla="*/ 2520 h 704880"/>
                <a:gd name="textAreaBottom" fmla="*/ 702360 h 704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88"/>
                    <a:pt x="0" y="175"/>
                  </a:cubicBezTo>
                  <a:lnTo>
                    <a:pt x="0" y="21425"/>
                  </a:lnTo>
                  <a:cubicBezTo>
                    <a:pt x="0" y="21513"/>
                    <a:pt x="10800" y="21600"/>
                    <a:pt x="21600" y="21600"/>
                  </a:cubicBezTo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직사각형 26"/>
            <p:cNvSpPr/>
            <p:nvPr/>
          </p:nvSpPr>
          <p:spPr>
            <a:xfrm>
              <a:off x="7107480" y="1716480"/>
              <a:ext cx="1130040" cy="19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굴림"/>
                </a:rPr>
                <a:t>7-bp delet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이등변 삼각형 19"/>
            <p:cNvSpPr/>
            <p:nvPr/>
          </p:nvSpPr>
          <p:spPr>
            <a:xfrm>
              <a:off x="1347480" y="2887920"/>
              <a:ext cx="77760" cy="1015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직사각형 26"/>
            <p:cNvSpPr/>
            <p:nvPr/>
          </p:nvSpPr>
          <p:spPr>
            <a:xfrm>
              <a:off x="1357920" y="2844000"/>
              <a:ext cx="617400" cy="22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굴림"/>
                </a:rPr>
                <a:t>nt 515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직사각형 5"/>
            <p:cNvSpPr/>
            <p:nvPr/>
          </p:nvSpPr>
          <p:spPr>
            <a:xfrm>
              <a:off x="8931600" y="3078360"/>
              <a:ext cx="96840" cy="102960"/>
            </a:xfrm>
            <a:prstGeom prst="rect">
              <a:avLst/>
            </a:prstGeom>
            <a:solidFill>
              <a:srgbClr val="7f7f7f">
                <a:alpha val="4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이등변 삼각형 19"/>
            <p:cNvSpPr/>
            <p:nvPr/>
          </p:nvSpPr>
          <p:spPr>
            <a:xfrm>
              <a:off x="8939520" y="3204000"/>
              <a:ext cx="77760" cy="1015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직사각형 26"/>
            <p:cNvSpPr/>
            <p:nvPr/>
          </p:nvSpPr>
          <p:spPr>
            <a:xfrm>
              <a:off x="8435520" y="3152880"/>
              <a:ext cx="617400" cy="22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굴림"/>
                </a:rPr>
                <a:t>nt 5238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3" name="그룹 1"/>
            <p:cNvGrpSpPr/>
            <p:nvPr/>
          </p:nvGrpSpPr>
          <p:grpSpPr>
            <a:xfrm>
              <a:off x="663120" y="2591280"/>
              <a:ext cx="9189000" cy="280440"/>
              <a:chOff x="663120" y="2591280"/>
              <a:chExt cx="9189000" cy="280440"/>
            </a:xfrm>
          </p:grpSpPr>
          <p:sp>
            <p:nvSpPr>
              <p:cNvPr id="74" name="Text Box 9"/>
              <p:cNvSpPr/>
              <p:nvPr/>
            </p:nvSpPr>
            <p:spPr>
              <a:xfrm>
                <a:off x="663120" y="2591280"/>
                <a:ext cx="9189000" cy="180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imes New Roman"/>
                    <a:ea typeface="굴림"/>
                  </a:rPr>
                  <a:t>              </a:t>
                </a:r>
                <a:r>
                  <a:rPr b="1" lang="en-US" sz="900" spc="-1" strike="noStrike">
                    <a:solidFill>
                      <a:srgbClr val="000000"/>
                    </a:solidFill>
                    <a:latin typeface="Times New Roman"/>
                    <a:ea typeface="굴림"/>
                  </a:rPr>
                  <a:t>5151                                                              5175                                      5190                          5201 5203                                      5218    5222 5225 5228             5235 52385239 5241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직사각형 5"/>
              <p:cNvSpPr/>
              <p:nvPr/>
            </p:nvSpPr>
            <p:spPr>
              <a:xfrm>
                <a:off x="1328400" y="2764080"/>
                <a:ext cx="95040" cy="104760"/>
              </a:xfrm>
              <a:prstGeom prst="rect">
                <a:avLst/>
              </a:prstGeom>
              <a:solidFill>
                <a:srgbClr val="7f7f7f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직사각형 5"/>
              <p:cNvSpPr/>
              <p:nvPr/>
            </p:nvSpPr>
            <p:spPr>
              <a:xfrm>
                <a:off x="3292200" y="2765520"/>
                <a:ext cx="99720" cy="104760"/>
              </a:xfrm>
              <a:prstGeom prst="rect">
                <a:avLst/>
              </a:prstGeom>
              <a:solidFill>
                <a:srgbClr val="7f7f7f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직사각형 5"/>
              <p:cNvSpPr/>
              <p:nvPr/>
            </p:nvSpPr>
            <p:spPr>
              <a:xfrm>
                <a:off x="5602320" y="2766960"/>
                <a:ext cx="95040" cy="104760"/>
              </a:xfrm>
              <a:prstGeom prst="rect">
                <a:avLst/>
              </a:prstGeom>
              <a:solidFill>
                <a:srgbClr val="7f7f7f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직사각형 5"/>
              <p:cNvSpPr/>
              <p:nvPr/>
            </p:nvSpPr>
            <p:spPr>
              <a:xfrm>
                <a:off x="7161120" y="2760840"/>
                <a:ext cx="96840" cy="106200"/>
              </a:xfrm>
              <a:prstGeom prst="rect">
                <a:avLst/>
              </a:prstGeom>
              <a:solidFill>
                <a:srgbClr val="7f7f7f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직사각형 5"/>
              <p:cNvSpPr/>
              <p:nvPr/>
            </p:nvSpPr>
            <p:spPr>
              <a:xfrm>
                <a:off x="7515360" y="2764080"/>
                <a:ext cx="85680" cy="106200"/>
              </a:xfrm>
              <a:prstGeom prst="rect">
                <a:avLst/>
              </a:prstGeom>
              <a:solidFill>
                <a:srgbClr val="7f7f7f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직사각형 5"/>
              <p:cNvSpPr/>
              <p:nvPr/>
            </p:nvSpPr>
            <p:spPr>
              <a:xfrm>
                <a:off x="7750080" y="2765520"/>
                <a:ext cx="95040" cy="104760"/>
              </a:xfrm>
              <a:prstGeom prst="rect">
                <a:avLst/>
              </a:prstGeom>
              <a:solidFill>
                <a:srgbClr val="7f7f7f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직사각형 5"/>
              <p:cNvSpPr/>
              <p:nvPr/>
            </p:nvSpPr>
            <p:spPr>
              <a:xfrm>
                <a:off x="8007480" y="2765520"/>
                <a:ext cx="95040" cy="102960"/>
              </a:xfrm>
              <a:prstGeom prst="rect">
                <a:avLst/>
              </a:prstGeom>
              <a:solidFill>
                <a:srgbClr val="7f7f7f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직사각형 5"/>
              <p:cNvSpPr/>
              <p:nvPr/>
            </p:nvSpPr>
            <p:spPr>
              <a:xfrm>
                <a:off x="8653680" y="2766960"/>
                <a:ext cx="95040" cy="102960"/>
              </a:xfrm>
              <a:prstGeom prst="rect">
                <a:avLst/>
              </a:prstGeom>
              <a:solidFill>
                <a:srgbClr val="7f7f7f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직사각형 5"/>
              <p:cNvSpPr/>
              <p:nvPr/>
            </p:nvSpPr>
            <p:spPr>
              <a:xfrm>
                <a:off x="9193320" y="2765520"/>
                <a:ext cx="95040" cy="102960"/>
              </a:xfrm>
              <a:prstGeom prst="rect">
                <a:avLst/>
              </a:prstGeom>
              <a:solidFill>
                <a:srgbClr val="7f7f7f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직사각형 5"/>
              <p:cNvSpPr/>
              <p:nvPr/>
            </p:nvSpPr>
            <p:spPr>
              <a:xfrm>
                <a:off x="2630160" y="2764080"/>
                <a:ext cx="104760" cy="106200"/>
              </a:xfrm>
              <a:prstGeom prst="rect">
                <a:avLst/>
              </a:prstGeom>
              <a:solidFill>
                <a:srgbClr val="7f7f7f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직사각형 5"/>
              <p:cNvSpPr/>
              <p:nvPr/>
            </p:nvSpPr>
            <p:spPr>
              <a:xfrm>
                <a:off x="9028080" y="2764080"/>
                <a:ext cx="95040" cy="104760"/>
              </a:xfrm>
              <a:prstGeom prst="rect">
                <a:avLst/>
              </a:prstGeom>
              <a:solidFill>
                <a:srgbClr val="7f7f7f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6" name="이등변 삼각형 19"/>
            <p:cNvSpPr/>
            <p:nvPr/>
          </p:nvSpPr>
          <p:spPr>
            <a:xfrm>
              <a:off x="2644560" y="2886480"/>
              <a:ext cx="77760" cy="1015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직사각형 26"/>
            <p:cNvSpPr/>
            <p:nvPr/>
          </p:nvSpPr>
          <p:spPr>
            <a:xfrm>
              <a:off x="2643480" y="2844000"/>
              <a:ext cx="617400" cy="22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굴림"/>
                </a:rPr>
                <a:t>nt 5168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이등변 삼각형 19"/>
            <p:cNvSpPr/>
            <p:nvPr/>
          </p:nvSpPr>
          <p:spPr>
            <a:xfrm>
              <a:off x="4589640" y="3204000"/>
              <a:ext cx="77760" cy="1015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이등변 삼각형 19"/>
            <p:cNvSpPr/>
            <p:nvPr/>
          </p:nvSpPr>
          <p:spPr>
            <a:xfrm>
              <a:off x="5794560" y="3204000"/>
              <a:ext cx="77760" cy="1015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직사각형 5"/>
            <p:cNvSpPr/>
            <p:nvPr/>
          </p:nvSpPr>
          <p:spPr>
            <a:xfrm>
              <a:off x="4587840" y="3073320"/>
              <a:ext cx="95040" cy="104760"/>
            </a:xfrm>
            <a:prstGeom prst="rect">
              <a:avLst/>
            </a:prstGeom>
            <a:solidFill>
              <a:srgbClr val="7f7f7f">
                <a:alpha val="4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직사각형 5"/>
            <p:cNvSpPr/>
            <p:nvPr/>
          </p:nvSpPr>
          <p:spPr>
            <a:xfrm>
              <a:off x="5791320" y="3073320"/>
              <a:ext cx="95040" cy="104760"/>
            </a:xfrm>
            <a:prstGeom prst="rect">
              <a:avLst/>
            </a:prstGeom>
            <a:solidFill>
              <a:srgbClr val="7f7f7f">
                <a:alpha val="4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직사각형 26"/>
            <p:cNvSpPr/>
            <p:nvPr/>
          </p:nvSpPr>
          <p:spPr>
            <a:xfrm>
              <a:off x="4094280" y="3152880"/>
              <a:ext cx="617400" cy="22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굴림"/>
                </a:rPr>
                <a:t>nt 519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직사각형 26"/>
            <p:cNvSpPr/>
            <p:nvPr/>
          </p:nvSpPr>
          <p:spPr>
            <a:xfrm>
              <a:off x="5812560" y="3152880"/>
              <a:ext cx="617400" cy="22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굴림"/>
                </a:rPr>
                <a:t>nt 520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" name="그룹 1"/>
            <p:cNvGrpSpPr/>
            <p:nvPr/>
          </p:nvGrpSpPr>
          <p:grpSpPr>
            <a:xfrm>
              <a:off x="499680" y="3862440"/>
              <a:ext cx="8787240" cy="2187000"/>
              <a:chOff x="499680" y="3862440"/>
              <a:chExt cx="8787240" cy="2187000"/>
            </a:xfrm>
          </p:grpSpPr>
          <p:pic>
            <p:nvPicPr>
              <p:cNvPr id="95" name="그림 1" descr=""/>
              <p:cNvPicPr/>
              <p:nvPr/>
            </p:nvPicPr>
            <p:blipFill>
              <a:blip r:embed="rId1"/>
              <a:stretch/>
            </p:blipFill>
            <p:spPr>
              <a:xfrm>
                <a:off x="1200240" y="3862440"/>
                <a:ext cx="8086680" cy="1114200"/>
              </a:xfrm>
              <a:prstGeom prst="rect">
                <a:avLst/>
              </a:prstGeom>
              <a:ln w="19080">
                <a:solidFill>
                  <a:srgbClr val="000000"/>
                </a:solidFill>
                <a:miter/>
              </a:ln>
            </p:spPr>
          </p:pic>
          <p:pic>
            <p:nvPicPr>
              <p:cNvPr id="96" name="그림 2" descr=""/>
              <p:cNvPicPr/>
              <p:nvPr/>
            </p:nvPicPr>
            <p:blipFill>
              <a:blip r:embed="rId2"/>
              <a:stretch/>
            </p:blipFill>
            <p:spPr>
              <a:xfrm>
                <a:off x="1200240" y="5036760"/>
                <a:ext cx="8086680" cy="1012680"/>
              </a:xfrm>
              <a:prstGeom prst="rect">
                <a:avLst/>
              </a:prstGeom>
              <a:ln w="19080">
                <a:solidFill>
                  <a:srgbClr val="000000"/>
                </a:solidFill>
                <a:miter/>
              </a:ln>
            </p:spPr>
          </p:pic>
          <p:sp>
            <p:nvSpPr>
              <p:cNvPr id="97" name="직사각형 4"/>
              <p:cNvSpPr/>
              <p:nvPr/>
            </p:nvSpPr>
            <p:spPr>
              <a:xfrm>
                <a:off x="517680" y="5375520"/>
                <a:ext cx="707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  <a:ea typeface="굴림"/>
                  </a:rPr>
                  <a:t>BL28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직사각형 36"/>
              <p:cNvSpPr/>
              <p:nvPr/>
            </p:nvSpPr>
            <p:spPr>
              <a:xfrm>
                <a:off x="499680" y="4295160"/>
                <a:ext cx="659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  <a:ea typeface="굴림"/>
                  </a:rPr>
                  <a:t>BL1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이등변 삼각형 19"/>
              <p:cNvSpPr/>
              <p:nvPr/>
            </p:nvSpPr>
            <p:spPr>
              <a:xfrm>
                <a:off x="1399680" y="4122360"/>
                <a:ext cx="77760" cy="10152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직사각형 26"/>
              <p:cNvSpPr/>
              <p:nvPr/>
            </p:nvSpPr>
            <p:spPr>
              <a:xfrm>
                <a:off x="1299600" y="4176720"/>
                <a:ext cx="617400" cy="222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굴림"/>
                  </a:rPr>
                  <a:t>nt 5153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이등변 삼각형 19"/>
              <p:cNvSpPr/>
              <p:nvPr/>
            </p:nvSpPr>
            <p:spPr>
              <a:xfrm>
                <a:off x="8925120" y="5277600"/>
                <a:ext cx="77760" cy="10152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직사각형 26"/>
              <p:cNvSpPr/>
              <p:nvPr/>
            </p:nvSpPr>
            <p:spPr>
              <a:xfrm>
                <a:off x="8666280" y="5346360"/>
                <a:ext cx="617400" cy="222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굴림"/>
                  </a:rPr>
                  <a:t>nt 5238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이등변 삼각형 19"/>
              <p:cNvSpPr/>
              <p:nvPr/>
            </p:nvSpPr>
            <p:spPr>
              <a:xfrm>
                <a:off x="2744280" y="4126320"/>
                <a:ext cx="77760" cy="10152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직사각형 26"/>
              <p:cNvSpPr/>
              <p:nvPr/>
            </p:nvSpPr>
            <p:spPr>
              <a:xfrm>
                <a:off x="2417400" y="4189320"/>
                <a:ext cx="617400" cy="222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굴림"/>
                  </a:rPr>
                  <a:t>nt 5168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이등변 삼각형 19"/>
              <p:cNvSpPr/>
              <p:nvPr/>
            </p:nvSpPr>
            <p:spPr>
              <a:xfrm>
                <a:off x="4681440" y="5280840"/>
                <a:ext cx="77760" cy="10152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이등변 삼각형 19"/>
              <p:cNvSpPr/>
              <p:nvPr/>
            </p:nvSpPr>
            <p:spPr>
              <a:xfrm>
                <a:off x="5832360" y="5280840"/>
                <a:ext cx="77760" cy="10152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직사각형 26"/>
              <p:cNvSpPr/>
              <p:nvPr/>
            </p:nvSpPr>
            <p:spPr>
              <a:xfrm>
                <a:off x="5583240" y="5342760"/>
                <a:ext cx="617400" cy="222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굴림"/>
                  </a:rPr>
                  <a:t>nt 5203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직사각형 26"/>
              <p:cNvSpPr/>
              <p:nvPr/>
            </p:nvSpPr>
            <p:spPr>
              <a:xfrm>
                <a:off x="4431960" y="5342760"/>
                <a:ext cx="617400" cy="222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굴림"/>
                  </a:rPr>
                  <a:t>nt 5190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9" name="왼쪽 대괄호 69"/>
            <p:cNvSpPr/>
            <p:nvPr/>
          </p:nvSpPr>
          <p:spPr>
            <a:xfrm>
              <a:off x="479160" y="1328040"/>
              <a:ext cx="45720" cy="1023840"/>
            </a:xfrm>
            <a:custGeom>
              <a:avLst/>
              <a:gdLst>
                <a:gd name="textAreaLeft" fmla="*/ 13320 w 45720"/>
                <a:gd name="textAreaRight" fmla="*/ 46080 w 45720"/>
                <a:gd name="textAreaTop" fmla="*/ 1800 h 1023840"/>
                <a:gd name="textAreaBottom" fmla="*/ 1022040 h 1023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40"/>
                    <a:pt x="0" y="80"/>
                  </a:cubicBezTo>
                  <a:lnTo>
                    <a:pt x="0" y="21520"/>
                  </a:lnTo>
                  <a:cubicBezTo>
                    <a:pt x="0" y="21560"/>
                    <a:pt x="10800" y="21600"/>
                    <a:pt x="21600" y="21600"/>
                  </a:cubicBezTo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직사각형 70"/>
            <p:cNvSpPr/>
            <p:nvPr/>
          </p:nvSpPr>
          <p:spPr>
            <a:xfrm>
              <a:off x="213480" y="1681200"/>
              <a:ext cx="299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I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직사각형 4"/>
            <p:cNvSpPr/>
            <p:nvPr/>
          </p:nvSpPr>
          <p:spPr>
            <a:xfrm>
              <a:off x="524880" y="6383880"/>
              <a:ext cx="707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굴림"/>
                </a:rPr>
                <a:t>JL15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2" name="그림 2" descr=""/>
            <p:cNvPicPr/>
            <p:nvPr/>
          </p:nvPicPr>
          <p:blipFill>
            <a:blip r:embed="rId3"/>
            <a:stretch/>
          </p:blipFill>
          <p:spPr>
            <a:xfrm>
              <a:off x="1200600" y="6106680"/>
              <a:ext cx="8099280" cy="978480"/>
            </a:xfrm>
            <a:prstGeom prst="rect">
              <a:avLst/>
            </a:prstGeom>
            <a:ln w="19080">
              <a:solidFill>
                <a:srgbClr val="000000"/>
              </a:solidFill>
              <a:miter/>
            </a:ln>
          </p:spPr>
        </p:pic>
        <p:sp>
          <p:nvSpPr>
            <p:cNvPr id="113" name="직사각형 5"/>
            <p:cNvSpPr/>
            <p:nvPr/>
          </p:nvSpPr>
          <p:spPr>
            <a:xfrm>
              <a:off x="5788080" y="2763720"/>
              <a:ext cx="95040" cy="104760"/>
            </a:xfrm>
            <a:prstGeom prst="rect">
              <a:avLst/>
            </a:prstGeom>
            <a:solidFill>
              <a:srgbClr val="7f7f7f">
                <a:alpha val="4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직사각형 5"/>
            <p:cNvSpPr/>
            <p:nvPr/>
          </p:nvSpPr>
          <p:spPr>
            <a:xfrm>
              <a:off x="8915760" y="2765520"/>
              <a:ext cx="96840" cy="102960"/>
            </a:xfrm>
            <a:prstGeom prst="rect">
              <a:avLst/>
            </a:prstGeom>
            <a:solidFill>
              <a:srgbClr val="7f7f7f">
                <a:alpha val="4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직사각형 5"/>
            <p:cNvSpPr/>
            <p:nvPr/>
          </p:nvSpPr>
          <p:spPr>
            <a:xfrm>
              <a:off x="9029880" y="3414960"/>
              <a:ext cx="96840" cy="102960"/>
            </a:xfrm>
            <a:prstGeom prst="rect">
              <a:avLst/>
            </a:prstGeom>
            <a:solidFill>
              <a:srgbClr val="7f7f7f">
                <a:alpha val="4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이등변 삼각형 19"/>
            <p:cNvSpPr/>
            <p:nvPr/>
          </p:nvSpPr>
          <p:spPr>
            <a:xfrm>
              <a:off x="9037080" y="3524040"/>
              <a:ext cx="77760" cy="1015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직사각형 26"/>
            <p:cNvSpPr/>
            <p:nvPr/>
          </p:nvSpPr>
          <p:spPr>
            <a:xfrm>
              <a:off x="8538840" y="3475440"/>
              <a:ext cx="617400" cy="22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굴림"/>
                </a:rPr>
                <a:t>nt 5239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이등변 삼각형 19"/>
            <p:cNvSpPr/>
            <p:nvPr/>
          </p:nvSpPr>
          <p:spPr>
            <a:xfrm>
              <a:off x="8908920" y="6325560"/>
              <a:ext cx="77760" cy="1015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직사각형 26"/>
            <p:cNvSpPr/>
            <p:nvPr/>
          </p:nvSpPr>
          <p:spPr>
            <a:xfrm>
              <a:off x="8650440" y="6390000"/>
              <a:ext cx="617400" cy="22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굴림"/>
                </a:rPr>
                <a:t>nt 5239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" name="직사각형 5"/>
          <p:cNvSpPr/>
          <p:nvPr/>
        </p:nvSpPr>
        <p:spPr>
          <a:xfrm>
            <a:off x="4621320" y="2763720"/>
            <a:ext cx="95040" cy="104760"/>
          </a:xfrm>
          <a:prstGeom prst="rect">
            <a:avLst/>
          </a:prstGeom>
          <a:solidFill>
            <a:srgbClr val="7f7f7f">
              <a:alpha val="4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왼쪽 중괄호 5"/>
          <p:cNvSpPr/>
          <p:nvPr/>
        </p:nvSpPr>
        <p:spPr>
          <a:xfrm rot="5400000">
            <a:off x="4081320" y="5952960"/>
            <a:ext cx="235080" cy="930240"/>
          </a:xfrm>
          <a:custGeom>
            <a:avLst/>
            <a:gdLst>
              <a:gd name="textAreaLeft" fmla="*/ 150120 w 235080"/>
              <a:gd name="textAreaRight" fmla="*/ 235440 w 235080"/>
              <a:gd name="textAreaTop" fmla="*/ 6120 h 930240"/>
              <a:gd name="textAreaBottom" fmla="*/ 924120 h 930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59"/>
                </a:cubicBezTo>
                <a:lnTo>
                  <a:pt x="10800" y="10341"/>
                </a:lnTo>
                <a:cubicBezTo>
                  <a:pt x="10800" y="10571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59"/>
                </a:cubicBezTo>
                <a:lnTo>
                  <a:pt x="10800" y="21141"/>
                </a:lnTo>
                <a:cubicBezTo>
                  <a:pt x="10800" y="21371"/>
                  <a:pt x="16200" y="21600"/>
                  <a:pt x="21600" y="21600"/>
                </a:cubicBezTo>
              </a:path>
            </a:pathLst>
          </a:cu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직사각형 1"/>
          <p:cNvSpPr/>
          <p:nvPr/>
        </p:nvSpPr>
        <p:spPr>
          <a:xfrm>
            <a:off x="3781440" y="6431040"/>
            <a:ext cx="863640" cy="44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굴림"/>
              </a:rPr>
              <a:t>25-bp dele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10"/>
          <p:cNvSpPr/>
          <p:nvPr/>
        </p:nvSpPr>
        <p:spPr>
          <a:xfrm>
            <a:off x="71280" y="108000"/>
            <a:ext cx="103356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URE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ser</dc:creator>
  <dc:description/>
  <cp:keywords/>
  <dc:language>en-US</dc:language>
  <cp:lastModifiedBy>진형태</cp:lastModifiedBy>
  <cp:lastPrinted>2019-03-09T09:08:20Z</cp:lastPrinted>
  <dcterms:modified xsi:type="dcterms:W3CDTF">2024-05-03T06:05:17Z</dcterms:modified>
  <cp:revision>212</cp:revision>
  <dc:subject/>
  <dc:title>PowerPoint 프레젠테이션</dc:title>
</cp:coreProperties>
</file>